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25C-30A5-4DE1-B4F1-DD281199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5BDB-A081-447D-B7FB-41933360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711-2DBA-484F-8D36-17009C50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364-9444-456D-8118-E65615FD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171-3183-4068-A0B2-46E291F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FD37-A64A-4A1F-95DB-080272DE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91D-C66C-4705-8E3F-446FEBCF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2F3-C76B-41A5-B2F8-D4F4E1FD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1A5-1CA7-4A41-969D-294D01F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0A2-0A72-4336-9FF5-80DEC43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086-EA35-4ABC-A8CB-3D422BE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C56-908E-4680-92FF-C87C60FC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9372-52EB-47B8-94EE-38D7BB33C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Axel (C.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l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m eine C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4953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schwimmen gewoh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29200" y="2362320"/>
            <a:ext cx="3733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wandern gewoh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Maine Hiking"/>
          <p:cNvPicPr/>
          <p:nvPr/>
        </p:nvPicPr>
        <p:blipFill>
          <a:blip r:embed="rId1"/>
          <a:stretch/>
        </p:blipFill>
        <p:spPr>
          <a:xfrm>
            <a:off x="533520" y="2819520"/>
            <a:ext cx="3952800" cy="3162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Colorado Hiking"/>
          <p:cNvPicPr/>
          <p:nvPr/>
        </p:nvPicPr>
        <p:blipFill>
          <a:blip r:embed="rId2"/>
          <a:stretch/>
        </p:blipFill>
        <p:spPr>
          <a:xfrm>
            <a:off x="4724280" y="2819520"/>
            <a:ext cx="395316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resturant w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4267080" cy="3353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952880" y="29718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fallt Italia sehr g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sehe Italia gesu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tal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Sizil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42674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Weston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room e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3953160" cy="316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3048120"/>
            <a:ext cx="3952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ussball gespi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2871720"/>
            <a:ext cx="45720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eine pasta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191120" cy="3809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810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Cola getrunk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91040" y="2438280"/>
            <a:ext cx="3543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reunde ges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753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book gel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72392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323"/>
            </a:gs>
            <a:gs pos="5000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t eine B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4191120" cy="42861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29200" y="2209680"/>
            <a:ext cx="381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0:19Z</dcterms:created>
  <dc:creator>CUSD220</dc:creator>
  <dc:description/>
  <dc:language>en-US</dc:language>
  <cp:lastModifiedBy>CUSD220</cp:lastModifiedBy>
  <dcterms:modified xsi:type="dcterms:W3CDTF">2011-11-15T18:43:38Z</dcterms:modified>
  <cp:revision>4</cp:revision>
  <dc:subject/>
  <dc:title>Meine Ferien </dc:title>
</cp:coreProperties>
</file>